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59E-BA7A-4FB8-AFD3-7A11B6FF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F40-C0FB-427F-9422-09875C16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430-ACA9-491E-895B-FDF05A42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E3B-763E-46CA-ADA1-28524AD0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FB1-134A-4A3F-9D6E-11AC2514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0B7-AA74-4E7D-BD90-4D165317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7211-0923-4435-BDBC-DA6B968A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1C8-EB3F-4C06-B361-33779C22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A49B-ABBB-4266-A886-181176D9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C222-69A4-4D24-A2D9-72F0D447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4DEB-DADB-4754-B6BB-3722D01B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3FBB-B01F-4AA4-9B6C-F77E52EC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8A6D-E923-4CC5-99FD-9602FF034E2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فصل الاو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ماهية التقارير الما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المستفيدون من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أهداف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41600" y="1333440"/>
            <a:ext cx="7660800" cy="1031400"/>
          </a:xfrm>
          <a:prstGeom prst="rect">
            <a:avLst/>
          </a:prstGeom>
          <a:solidFill>
            <a:srgbClr val="ebd1a1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هدف من التقارير الم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9080" y="3130920"/>
            <a:ext cx="7580160" cy="2251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ظهار نتيجة نشاط المنشأة والمركز المالي والتغيرات في المركز المالي بكل عدالة ووضوح في ضوء المبادئ المحاسبية المقبو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إمداد المستفيدين بمعلومات موثوق بها عن نشاط المنشأة ومركزها المال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771480"/>
            <a:ext cx="7772760" cy="9082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خصائص النوعية ل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5040" y="2421000"/>
            <a:ext cx="3181320" cy="38685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ل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دم التح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ابلية للف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وقي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ا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A2A-87B3-4D1B-8618-ECAF340AB1A5}" type="slidenum">
              <a:t>11</a:t>
            </a:fld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764640"/>
            <a:ext cx="7772760" cy="12002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هدف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2320" y="2973240"/>
            <a:ext cx="5486400" cy="32641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نظمات المه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جهات المشرفة على البورص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نظام الاقتصادي الس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ضخ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دخل الحكو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61EF-2805-4B8D-8C54-FD404F1D2A3B}" type="slidenum">
              <a:t>12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8960" y="1410480"/>
            <a:ext cx="7693200" cy="71784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7000"/>
            <a:ext cx="7775280" cy="35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كلفة التاريخ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خصص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تعدد 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عدم اشتمالها على بعض الأصول (الموارد البش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لغة التي تعد على أساسها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41600" y="1617480"/>
            <a:ext cx="7660800" cy="1031400"/>
          </a:xfrm>
          <a:prstGeom prst="rect">
            <a:avLst/>
          </a:prstGeom>
          <a:solidFill>
            <a:srgbClr val="eaeaea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دف المقر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25400" y="3486960"/>
            <a:ext cx="7607520" cy="1764360"/>
          </a:xfrm>
          <a:prstGeom prst="rect">
            <a:avLst/>
          </a:prstGeom>
          <a:solidFill>
            <a:srgbClr val="eaeaea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مكين الدارسين من التعرف على الأساليب العلمية المستخدمة في تحليل وتفسير القوائم المالية (التحليل المالي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6237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38440"/>
            <a:ext cx="7989840" cy="31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a7ff"/>
              </a:gs>
              <a:gs pos="50000">
                <a:srgbClr val="ffffff"/>
              </a:gs>
              <a:gs pos="100000">
                <a:srgbClr val="d3a7ff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جزء لا يتجزأ من التقارير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تبر القوائم المالية عصب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قارير المالية أعم من القوائم المالية فهي تشمل التقارير المالية ومعلومات أخرى مالية وغير مالية مثل المعلومات عن النشاط التسويقي والإنتاجي للمنشأة وتقرير مجلس الإدارة وتقرير المراجع الخارجي ...ال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ئولية المراجع فقط عن القوائم المالية والملاحظات المرفقة ب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الفرق بين التقارير المالية والقوائم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837-BEF2-4772-AEEE-E8443B43A9AC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3640" y="2016000"/>
            <a:ext cx="3581640" cy="7653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0320" y="609120"/>
            <a:ext cx="7772400" cy="1143000"/>
          </a:xfrm>
          <a:prstGeom prst="rect">
            <a:avLst/>
          </a:prstGeom>
          <a:solidFill>
            <a:srgbClr val="ccccff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3105000"/>
            <a:ext cx="3529080" cy="828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مرا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6360" y="4221000"/>
            <a:ext cx="3581280" cy="866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مجلس الا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30064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ادارة التنفيذ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1592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E3A-2880-4639-A833-A0871F6DEE63}" type="slidenum">
              <a:t>4</a:t>
            </a:fld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549000"/>
            <a:ext cx="7993440" cy="69012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ولاً: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0200" y="2671560"/>
            <a:ext cx="3819600" cy="6490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فاهيم التي تؤثر على شكل ومحتوى 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2673360"/>
            <a:ext cx="3168720" cy="6494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ناصر 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836880"/>
            <a:ext cx="316692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صول (الموجود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لتزامات (المطلوب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يراد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صروف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في الدخ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3836880"/>
            <a:ext cx="180036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دو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حقق الإير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قاب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وحدة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اس النق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838680"/>
            <a:ext cx="1873080" cy="23986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كلفة التاريخ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فصا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همية النس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فظ (الحيطة والحذ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60164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ائمة المركز المالي – قائمة الدخل – قائمة التدفقات النقدية – قائمة الأرباح المحتج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3429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A333-7499-494B-BE1D-9FA2BBA4D01D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نياً: تقرير مراقب الحساب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نتيجة الفحص للقوائم المالية من حيث مدى دقة المعلومات التي تحتويها ومدى تمثيلها بصدق وعدالة للمركز المالي للمشروع ونتيجة نشاط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E28-56C8-4C9F-9346-926D8073C5CE}" type="slidenum">
              <a:t>6</a:t>
            </a:fld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لثاً: تقرير مجلس الإد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عامة عن المنشأة وأهدافها ومركزها المالي والتسويقي، ومعلومات عن الإنتاج ودرجة نمو المبيعات والأرباح والعوامل المؤثرة في نشاط المنشأة مستقبل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لا تخضع المعلومات الواردة فيه لمراجعة مراقب الحسابا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8F80-7886-49AE-A45B-60DB3426E5EE}" type="slidenum">
              <a:t>7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ابعاً: تقرير الإدارة التنفيذ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أكثر تفصيلاً من تقرير مجلس الإدارة، كالأصول والالتزامات وحقوق الملكية والتغيرات التي حدثت عليها خلال السنة المالية، ومعلومات عن العقود الجديدة وسياسة توزيع الأرباح والعاملين والخدمات المقدمة ل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لزامي في بعض الدول كبريطاني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F69E-82A7-466B-B3FD-E71E73C8EA29}" type="slidenum">
              <a:t>8</a:t>
            </a:fld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704880"/>
            <a:ext cx="7772400" cy="1571760"/>
          </a:xfrm>
          <a:prstGeom prst="downArrowCallout">
            <a:avLst>
              <a:gd name="adj1" fmla="val -122318"/>
              <a:gd name="adj2" fmla="val 12362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فيدون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492280"/>
            <a:ext cx="5040360" cy="35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d1a1"/>
              </a:gs>
              <a:gs pos="50000">
                <a:srgbClr val="ffffff"/>
              </a:gs>
              <a:gs pos="100000">
                <a:srgbClr val="ebd1a1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إدارة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لاك المنشأة والمستثمرون المحتم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دائنو المنشأة و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جهات الحك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راكز الدراسات والبحو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7912-8D5B-40AA-BD4B-21CDE88B2047}" type="slidenum">
              <a:t>9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2:41:08Z</dcterms:modified>
  <cp:revision>21</cp:revision>
  <dc:subject/>
  <dc:title>التحليل المالي والائتماني</dc:title>
</cp:coreProperties>
</file>